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F10-BC54-441F-ABF1-15DAB52A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315-3AB7-450E-926A-F3E038EA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116-2B70-498F-88E8-C04F2F32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88F-DE64-4ED1-92C4-B36F28F1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ADE-DC71-446C-8A9A-B487D8CD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EC5-877C-4A4A-849E-05A7F15E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FAC-257D-42B0-9B3B-3FC056E5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63A-75F8-493E-8AC5-BAD58458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B28-4458-4912-8B1F-7DEA5EF3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5CC-7FD6-4E10-9838-C48DB755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5EC-8182-456A-94B1-A529FE1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EF5-7F27-4BB6-81B7-A0126523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07A0-A47E-414E-B429-73267FC3C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Teacher Left Behi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lcome Back and Get Ready to Thi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your le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leave no teacher behind, you will need to change you perspective on what and how we do profession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ere is more than one right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yourself in the right place to maximize your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your technical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urn the ordinary into extraordi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ool 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5 minutes -- Have one or two people review each document: certification, transfer rubric, quality instruction rubr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 minutes -- Identify perceived gaps in current plan and post on large poster pap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5 minutes -- Prioritize list by indicating gaps by perceived importance to increasing the chance of transf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 minutes --Take top two and brainstorm barriers that keep you from implemen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5 minutes -- Brainstorm ways around the barri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raining F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n the entire article and highlight words and phrases that catch your m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your highlighted work generate two essential questions and email them to cherryl.paul@dvusd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essential questions are open ended questions that are geared to create interest and thinking on the top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o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your trio use the following the dissect the PD certifi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 each area (decision making, before, after) to determine what your school is incorporating, the most difficult to incorporate, and which are most critical to impr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r group will report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aschool.us/random/random-pair.ph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edtech.kennesaw.edu/intech/randomnumbergenerator.ht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y Effective Schools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295280"/>
          <a:ext cx="8229600" cy="4029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 clear man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aborative goal s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ard al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of man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ranteed and Viable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llenging Goals and Effective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ental Invol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 and Orderly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giality and Professio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ctional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752480" y="1828800"/>
            <a:ext cx="2971800" cy="289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05320" y="1676520"/>
            <a:ext cx="2971800" cy="289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2666880" y="3048120"/>
            <a:ext cx="2971800" cy="289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305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945480" cy="30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496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dates and Inno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496200" cy="3112920"/>
          </a:xfrm>
          <a:prstGeom prst="rect">
            <a:avLst/>
          </a:prstGeom>
          <a:ln w="0">
            <a:noFill/>
          </a:ln>
        </p:spPr>
      </p:pic>
      <p:cxnSp>
        <p:nvCxnSpPr>
          <p:cNvPr id="59" name="Straight Arrow Connector 5"/>
          <p:cNvCxnSpPr/>
          <p:nvPr/>
        </p:nvCxnSpPr>
        <p:spPr>
          <a:xfrm>
            <a:off x="1600200" y="4343040"/>
            <a:ext cx="2210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0" name="Straight Arrow Connector 15"/>
          <p:cNvCxnSpPr/>
          <p:nvPr/>
        </p:nvCxnSpPr>
        <p:spPr>
          <a:xfrm>
            <a:off x="5257800" y="5105160"/>
            <a:ext cx="228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" name="Straight Arrow Connector 18"/>
          <p:cNvCxnSpPr/>
          <p:nvPr/>
        </p:nvCxnSpPr>
        <p:spPr>
          <a:xfrm>
            <a:off x="3276360" y="4723920"/>
            <a:ext cx="2515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0:20:10Z</dcterms:created>
  <dc:creator>Debra Webb</dc:creator>
  <dc:description/>
  <dc:language>en-US</dc:language>
  <cp:lastModifiedBy>Debra Webb</cp:lastModifiedBy>
  <dcterms:modified xsi:type="dcterms:W3CDTF">2012-04-03T23:09:32Z</dcterms:modified>
  <cp:revision>7</cp:revision>
  <dc:subject/>
  <dc:title>No Teacher Left Behind</dc:title>
</cp:coreProperties>
</file>